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C939-AD6B-48E5-A7A0-EE1BB7DF7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06B7-1992-4902-A633-293AB7DA9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2FDC-B827-4982-8744-71F9410DF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9742-FE77-47EA-9848-233660B01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820A9-8080-46C2-BFD6-E88444A66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E364B-9B2A-4EE6-B298-8387F06D3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5F381-2E51-4BF9-8E7A-82594F051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5C808-FF33-471A-AC1C-C4A0F80B5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9BDF7-C822-49B7-98C8-98F8E5941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02C9B-A97B-422F-8D04-FD3F658EE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2C5F8-7378-4178-B88A-8256E5125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5EF1-6680-461E-9C6B-9047DE665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38577-B2A6-4F5D-93CE-640C93BB7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AF2B7-005A-426C-BAA9-E3869736A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FAE7D-70E3-4AE5-B6F1-DD9AD4D70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0176A-723D-4EC2-BF4C-0FE57A935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E1531-5D40-41CF-AD78-A545563DD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6842-74E8-4D76-9331-7B1662373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8337-76A5-4666-8D7E-80D72D06D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70E5-B904-48B1-BEAA-2DEE27966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9653-7C15-449D-AB9D-47C0EB1EB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22F9-2EF6-4CA5-A1DF-4DE595B72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0048-C817-4DEA-A050-02F26EEA1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290A-EF81-41D7-82D2-5E6C85320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ed7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ed7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cc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cc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cc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cc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cc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52DAE-A55E-469B-86C4-24675F9253A8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ed7d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16633-A98D-4010-8114-134E419CF87E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WCPFC institutional matters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The Convention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Host Government Agreement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Establishment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Finance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Other matters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33760" y="28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96" name="commission_logo" descr=""/>
          <p:cNvPicPr/>
          <p:nvPr/>
        </p:nvPicPr>
        <p:blipFill>
          <a:blip r:embed="rId1"/>
          <a:stretch/>
        </p:blipFill>
        <p:spPr>
          <a:xfrm>
            <a:off x="6324480" y="5257800"/>
            <a:ext cx="261000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The Convention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20 members plus 4 participating territorie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533760" y="28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0" name="commission_logo" descr=""/>
          <p:cNvPicPr/>
          <p:nvPr/>
        </p:nvPicPr>
        <p:blipFill>
          <a:blip r:embed="rId1"/>
          <a:stretch/>
        </p:blipFill>
        <p:spPr>
          <a:xfrm>
            <a:off x="6324480" y="5257800"/>
            <a:ext cx="261000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Host Government Agreement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2 Agreements involving FSM national Government, Pohnpei State and the Commission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Headquarters Agreement (privileges and immunities)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Occupancy Agreement (tenure, use of buildings, etc.)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Excellent support from FSM - working to conclude both before Comm-2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533760" y="28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4" name="commission_logo" descr=""/>
          <p:cNvPicPr/>
          <p:nvPr/>
        </p:nvPicPr>
        <p:blipFill>
          <a:blip r:embed="rId1"/>
          <a:stretch/>
        </p:blipFill>
        <p:spPr>
          <a:xfrm>
            <a:off x="6324480" y="5505480"/>
            <a:ext cx="261000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Establishment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Interim office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Staff Regulations drafted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ToR circulated to members – advertising next week?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Banking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Insurance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Audit arrangements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Communications 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	</a:t>
            </a: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– </a:t>
            </a: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including website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Subsidiary bodies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533760" y="28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8" name="commission_logo" descr=""/>
          <p:cNvPicPr/>
          <p:nvPr/>
        </p:nvPicPr>
        <p:blipFill>
          <a:blip r:embed="rId1"/>
          <a:stretch/>
        </p:blipFill>
        <p:spPr>
          <a:xfrm>
            <a:off x="6324480" y="5257800"/>
            <a:ext cx="261000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Finances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5 accounts – 2 FSM bank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Reconciliation and transfers underway from FFA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Current status – SC commitment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Voluntary contributions - including in-kind from the Chairman’s Office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533760" y="28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12" name="commission_logo" descr=""/>
          <p:cNvPicPr/>
          <p:nvPr/>
        </p:nvPicPr>
        <p:blipFill>
          <a:blip r:embed="rId1"/>
          <a:stretch/>
        </p:blipFill>
        <p:spPr>
          <a:xfrm>
            <a:off x="6324480" y="5257800"/>
            <a:ext cx="261000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Relations with other organizations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Article 22 – unfinished busines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IATTC, ISC, IOTC, CCAMLR, FAO, FFA, SPC, CCSBT, ICCAT.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533760" y="28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16" name="commission_logo" descr=""/>
          <p:cNvPicPr/>
          <p:nvPr/>
        </p:nvPicPr>
        <p:blipFill>
          <a:blip r:embed="rId1"/>
          <a:stretch/>
        </p:blipFill>
        <p:spPr>
          <a:xfrm>
            <a:off x="6324480" y="5257800"/>
            <a:ext cx="261000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Miscellaneous matters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Commissioner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Funds!  Assessed contribution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Ist July fishing vessel reports [Art. 24 (5) – Annex IV]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533760" y="28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20" name="commission_logo" descr=""/>
          <p:cNvPicPr/>
          <p:nvPr/>
        </p:nvPicPr>
        <p:blipFill>
          <a:blip r:embed="rId1"/>
          <a:stretch/>
        </p:blipFill>
        <p:spPr>
          <a:xfrm>
            <a:off x="6324480" y="5257800"/>
            <a:ext cx="261000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8T11:55:28Z</dcterms:created>
  <dc:creator>Andrew Wright</dc:creator>
  <dc:description/>
  <dc:language>en-US</dc:language>
  <cp:lastModifiedBy>水産庁</cp:lastModifiedBy>
  <dcterms:modified xsi:type="dcterms:W3CDTF">2005-09-08T12:49:44Z</dcterms:modified>
  <cp:revision>8</cp:revision>
  <dc:subject/>
  <dc:title>WCPFC institutional matters</dc:title>
</cp:coreProperties>
</file>